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13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70D-425E-4EB8-A63F-FB9228F9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55A-4EED-4E0D-B0F5-2D18DDF3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8E4-65FB-4D8F-8491-04AA1DFE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C69-DB72-496B-92E0-90CF0226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589-CD9F-452C-A8D5-115A0AF7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3F1-8933-43CD-A9C9-3A40CF0D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3B1-83FA-442D-A3AE-E980CE62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42E-989C-4768-B423-E306ABB1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7E8-2304-447A-9A25-D60C243C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4D5-06B0-4D25-9044-B6A8C34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230-BC7B-44C4-9480-FFA60014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1A6-86D9-4F61-B541-49296692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6A87-9975-4B01-80B4-6A1A92B675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676520" y="380880"/>
            <a:ext cx="58672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Welcome to our English class!</a:t>
            </a:r>
            <a:endParaRPr b="1" lang="en-US" sz="40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9414"/>
          <a:stretch/>
        </p:blipFill>
        <p:spPr>
          <a:xfrm>
            <a:off x="228600" y="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6520" y="3049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May  I  come   i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48640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Come  in ,plea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590920" y="762120"/>
            <a:ext cx="58672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May  I go to  BeiJing?</a:t>
            </a:r>
            <a:endParaRPr b="0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0" y="15228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BeiJ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8763120" cy="6473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 map of our count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143000"/>
            <a:ext cx="8534160" cy="71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.May I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 Black"/>
              </a:rPr>
              <a:t>go on a trip to Beijing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 Black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 Black"/>
              </a:rPr>
              <a:t>.Yes, you m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 Black"/>
              </a:rPr>
              <a:t>.No, you may not</a:t>
            </a:r>
            <a:r>
              <a:rPr b="1" lang="zh-CN" sz="4000" spc="-1" strike="noStrike">
                <a:solidFill>
                  <a:srgbClr val="cc0099"/>
                </a:solidFill>
                <a:latin typeface="Arial Black"/>
              </a:rPr>
              <a:t>.(</a:t>
            </a:r>
            <a:r>
              <a:rPr b="1" lang="zh-CN" sz="4000" spc="-1" strike="noStrike">
                <a:solidFill>
                  <a:srgbClr val="cc0099"/>
                </a:solidFill>
                <a:latin typeface="Arial Black"/>
              </a:rPr>
              <a:t>用下列词来替换横线处黑体部分练习</a:t>
            </a:r>
            <a:r>
              <a:rPr b="1" lang="zh-CN" sz="4000" spc="-1" strike="noStrike">
                <a:solidFill>
                  <a:srgbClr val="cc0099"/>
                </a:solidFill>
                <a:latin typeface="Arial Black"/>
              </a:rPr>
              <a:t>,</a:t>
            </a:r>
            <a:r>
              <a:rPr b="1" lang="zh-CN" sz="4000" spc="-1" strike="noStrike">
                <a:solidFill>
                  <a:srgbClr val="cc0099"/>
                </a:solidFill>
                <a:latin typeface="Arial Black"/>
              </a:rPr>
              <a:t>看看谁最棒</a:t>
            </a:r>
            <a:r>
              <a:rPr b="1" lang="zh-CN" sz="4000" spc="-1" strike="noStrike">
                <a:solidFill>
                  <a:srgbClr val="cc0099"/>
                </a:solidFill>
                <a:latin typeface="Arial Black"/>
              </a:rPr>
              <a:t>! </a:t>
            </a:r>
            <a:r>
              <a:rPr b="1" lang="zh-CN" sz="4400" spc="-1" strike="noStrike">
                <a:solidFill>
                  <a:srgbClr val="cc0099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 Black"/>
              </a:rPr>
              <a:t>go to  Tian’ an men  Squ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 Black"/>
              </a:rPr>
              <a:t>go shopp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 Black"/>
              </a:rPr>
              <a:t>go to a hot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 Black"/>
              </a:rPr>
              <a:t>live in Beij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22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句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MayI___?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小小翻译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o on a trip to 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o to Tian’an men Squ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o sh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o to a ho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live in Beij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ou are too young to go (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too…to…  “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太……而不能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990720"/>
            <a:ext cx="8458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go to the zo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you may.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you may n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go to the st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you may.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you may n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go  to  the  gy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you may.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No, you may n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go  to  the  restaura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?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you may.</a:t>
            </a:r>
            <a:r>
              <a:rPr b="1" lang="en-US" sz="4400" spc="-1" strike="noStrike">
                <a:solidFill>
                  <a:srgbClr val="ff6699"/>
                </a:solidFill>
                <a:latin typeface="Times New Roman"/>
                <a:ea typeface="黑体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you may n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522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Let’s    Chant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57200"/>
            <a:ext cx="6858000" cy="82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anguage no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143000"/>
            <a:ext cx="8610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. Mom, may I go on a trip to Beij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go on (have) a trip to  “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去旅行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他去北京旅行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He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goes on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a trip to Beij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533520"/>
            <a:ext cx="8001000" cy="35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. You’re too young to go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 —   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too  …    to…  “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太……而不能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你太小而不能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295280"/>
            <a:ext cx="815328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20100"/>
                </a:solidFill>
                <a:latin typeface="Times New Roman"/>
              </a:rPr>
              <a:t>3. Beijing is far from our c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far from “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远离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My home is far from our schoo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304920"/>
            <a:ext cx="91440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lesson14MayIGotoBeiJing</a:t>
            </a:r>
            <a:r>
              <a:rPr b="1" lang="zh-CN" sz="5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？</a:t>
            </a:r>
            <a:endParaRPr b="1" lang="en-US" sz="5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1066680"/>
            <a:ext cx="746748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Beijing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our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从……到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. You work hard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in/a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school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work hard “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努力学习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工作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410440" cy="4565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838080"/>
            <a:ext cx="434340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Let’s pract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26836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巩固练习：连词成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love  to  I go trips 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want go to Beijing to 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n trip let’s a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905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I love to go on tr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895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entury Gothic"/>
              </a:rPr>
              <a:t>I want to go to Beij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114800"/>
            <a:ext cx="6705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Century Gothic"/>
                <a:ea typeface="MS PGothic"/>
              </a:rPr>
              <a:t>Let’s go on a tr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99412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176480"/>
            <a:ext cx="8610480" cy="46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Shanghai is far _____ our c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of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B.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C. by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D.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China is ___ Cana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far from            B. far away fr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awa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D. away fr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e are going __ a trip __ Beij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o, on                  B. on,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on,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D. for,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15720"/>
            <a:ext cx="6983640" cy="75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提优补标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Choose the best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720720" cy="863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720720" cy="863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720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676520"/>
            <a:ext cx="89917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如果你想做以下这些事，你会用今天所学的句型和爸爸妈妈来沟通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May I       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read  boo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sing a s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watch T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draw a  pictu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at an apple…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-228600"/>
            <a:ext cx="1828800" cy="1695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90920" y="4572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20491200">
            <a:off x="-401040" y="549360"/>
            <a:ext cx="58773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华文隶书"/>
                <a:ea typeface="华文隶书"/>
              </a:rPr>
              <a:t>Good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491200">
            <a:off x="62280" y="3809520"/>
            <a:ext cx="5254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华文隶书"/>
                <a:ea typeface="华文隶书"/>
              </a:rPr>
              <a:t>Thanks!</a:t>
            </a:r>
            <a:r>
              <a:rPr b="1" lang="en-US" sz="9600" spc="-1" strike="noStrike">
                <a:solidFill>
                  <a:srgbClr val="9900ff"/>
                </a:solidFill>
                <a:latin typeface="华文隶书"/>
                <a:ea typeface="华文隶书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95280"/>
            <a:ext cx="7238880" cy="40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It’s the </a:t>
            </a:r>
            <a:r>
              <a:rPr b="1" i="1" lang="zh-CN" sz="4400" spc="-1" strike="noStrike">
                <a:solidFill>
                  <a:srgbClr val="ff00ff"/>
                </a:solidFill>
                <a:latin typeface="Times New Roman"/>
              </a:rPr>
              <a:t>capital city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of Chi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ff"/>
                </a:solidFill>
                <a:latin typeface="Times New Roman"/>
              </a:rPr>
              <a:t>Tian’anmen Squar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zh-CN" sz="4400" spc="-1" strike="noStrike">
                <a:solidFill>
                  <a:srgbClr val="ff00ff"/>
                </a:solidFill>
                <a:latin typeface="Times New Roman"/>
              </a:rPr>
              <a:t>the Palace Museum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are  in Beij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ou can see </a:t>
            </a:r>
            <a:r>
              <a:rPr b="1" i="1" lang="zh-CN" sz="4400" spc="-1" strike="noStrike">
                <a:solidFill>
                  <a:srgbClr val="ff00ff"/>
                </a:solidFill>
                <a:latin typeface="Times New Roman"/>
              </a:rPr>
              <a:t>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in Beij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Let’s have a trip to Beij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4489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What do you know about Beij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541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000" y="541008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Tian’anmen Squ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56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56386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the Palace Muse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54864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Summer Pala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7920" y="54864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Great Wal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Let’s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al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0360" y="1523880"/>
            <a:ext cx="458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600200"/>
            <a:ext cx="7848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Comic Sans MS"/>
              </a:rPr>
              <a:t>向你的同伴描述北京的名胜，比比谁说得又好又准确又流利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276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互相说说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你想去一个地方，你如何说服你的父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3505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</cp:lastModifiedBy>
  <dcterms:modified xsi:type="dcterms:W3CDTF">2018-08-17T04:44:55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